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14B8-F286-4BE0-AEC1-49718B7C2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5911B-9F88-48DF-AD88-1814328519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B500-3536-4F8E-8D00-632C9E8DAF6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CA39-C2B4-4D8E-A417-44FD58DB6B7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9C5D-B8ED-47D3-9581-6A2C7F5AE2B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B2A6-D350-4B2C-8098-93A980B8A2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A39D-F758-437B-9989-EE2BE482BD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B4E6-3D50-4D9A-9CA7-44415AB0A7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1401-25ED-4CE4-B5EC-45BC1CADFA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747D-559D-46A2-9B38-4FD26C31AC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0457-0B91-4C02-BB6B-A416A29460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45E2-E34F-4713-8271-3BB340507F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E03A-7CD7-43EB-AE7C-A0C8A36039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EB2E-35B6-4CD3-B9E5-D6A847E943D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65EE-150F-44F6-8534-677AAE0A89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C7DA-62DF-4952-BF0D-81F13292F37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A0FB-70D9-44BA-B04A-951F158540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75EB-71A2-49D8-B725-64E4903D16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D4D5-2D99-4322-9B5C-A13D738F3F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4320-A7C1-4C42-9F45-50D24E81C52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4DA9-9020-4526-8D19-7F47BF87C3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27E6-CACA-46FA-B1EE-CEFEA1F636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C496-6E7C-492C-8ADD-8096B2EBBEA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280A-53E4-49B0-A65E-B23678022D2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6E1-5F88-4DDB-B9F3-1F93A935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E29A-9E03-4DFD-A01C-99F8C6BBB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6B8-CEFC-44BE-93CE-231459B7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DAC9-1B0E-46DC-AD44-E04E618D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2B12-765B-4C38-A427-279A429D7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3B1F-CD50-4C1B-B0F8-C12C990E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0AD5-C224-47FD-A0CA-EF19F05E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CF30-F2BC-4FB6-B96F-10743A5C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0561-2C0C-461B-9C97-B0534F24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E445-35A7-4D9D-AD44-C2BB462D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1CC6-5052-4B2E-B22E-5060B366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3144-875F-438D-9927-2F31C578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724B-91FB-4315-A399-4A5B6015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E34A-C726-4137-AF43-52322753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D087-CC9E-453D-A23F-5010F0B0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2703-BCAD-4D89-88E2-0DCAE6D8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C7C9-55F8-46DD-A7B1-5FD8F4DE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14F-4D24-400D-A138-258302A5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A9D9-4323-418E-ACB6-88425BE7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943-BA12-448F-9E18-58BAD049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112-25DE-456D-B546-55FAA8F5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2797-4EF7-4B41-A06A-E2087943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FC1-D8E5-4479-9DF2-F7C160AE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EE5-D1E0-41A1-8E66-9233387D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D1C1-E10E-44D8-B9BB-32DB656FF1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EE39-DDC5-41E8-A18E-0CABB5251F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iedigerfarms.com/wholesale/ipm/ladybugmd.jpg&amp;imgrefurl=http://www.driedigerfarms.com/wholesale/ipm/&amp;h=253&amp;w=300&amp;sz=26&amp;tbnid=EyfZQcWjuM8J:&amp;tbnh=93&amp;tbnw=110&amp;start=36&amp;prev=/images%3Fq%3Dintegrated%2Bpest%2Bmanagement%26start%3D20%26hl%3Den%26lr%3D%26sa%3DN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hapter 12 – Agriculture and the Environme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69880"/>
            <a:ext cx="640080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y Concept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ance of soi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stainable farming practi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ert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ctory Farm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ntegrated Pest Manag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ladybug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152280"/>
            <a:ext cx="1047600" cy="885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photo: Blackheaded fireworm larva"/>
          <p:cNvPicPr/>
          <p:nvPr/>
        </p:nvPicPr>
        <p:blipFill>
          <a:blip r:embed="rId3"/>
          <a:stretch/>
        </p:blipFill>
        <p:spPr>
          <a:xfrm>
            <a:off x="685800" y="1523880"/>
            <a:ext cx="1600200" cy="2886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762120" y="4952880"/>
            <a:ext cx="3047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anberry and damage: black headed firewor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sonal flooding to control 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10" descr="photo: Fireworm larvae damage"/>
          <p:cNvPicPr/>
          <p:nvPr/>
        </p:nvPicPr>
        <p:blipFill>
          <a:blip r:embed="rId4"/>
          <a:stretch/>
        </p:blipFill>
        <p:spPr>
          <a:xfrm>
            <a:off x="2590920" y="1523880"/>
            <a:ext cx="1447560" cy="292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a-cuc"/>
          <p:cNvPicPr/>
          <p:nvPr/>
        </p:nvPicPr>
        <p:blipFill>
          <a:blip r:embed="rId5"/>
          <a:stretch/>
        </p:blipFill>
        <p:spPr>
          <a:xfrm>
            <a:off x="4267080" y="1523880"/>
            <a:ext cx="190512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thrips"/>
          <p:cNvPicPr/>
          <p:nvPr/>
        </p:nvPicPr>
        <p:blipFill>
          <a:blip r:embed="rId6"/>
          <a:stretch/>
        </p:blipFill>
        <p:spPr>
          <a:xfrm>
            <a:off x="6477120" y="1523880"/>
            <a:ext cx="1904760" cy="2971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6"/>
          <p:cNvSpPr/>
          <p:nvPr/>
        </p:nvSpPr>
        <p:spPr>
          <a:xfrm>
            <a:off x="4267080" y="4952880"/>
            <a:ext cx="40388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ft photo:  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edatory mite (IPM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ouring a thrips, an agicultural pest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ght photo:  the thrips by itsel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P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ms at control not eli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a combo of methods incl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logic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insectic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crop planting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M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erhybri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rminator Ge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 transfer (transgenic crop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Some Causes of Deser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or farm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vergra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emical poisoning of the so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Kesterson Wildlife Refug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ficial wetl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rly 1980s received agricultural drainage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supposed to drain to sea, didn’t finish it (oops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nium accumulated in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-irrigating to leach out salt buildup  caused the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5" descr="image of location map shows kesterson national wildlife refuge, cretaceous and tertiary sedimentary basins, and locations of onshore oil and gas fields, highlighting the Cheney Ranch 1 and Magnet Fearon 2 oil wells"/>
          <p:cNvPicPr/>
          <p:nvPr/>
        </p:nvPicPr>
        <p:blipFill>
          <a:blip r:embed="rId1"/>
          <a:stretch/>
        </p:blipFill>
        <p:spPr>
          <a:xfrm>
            <a:off x="3505320" y="1676520"/>
            <a:ext cx="4886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 embry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ified a tox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ing at plans to continue drainage to s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image of a normal, upper left, and deformed birds from the kesterson national wildlife refuge in california's central valley"/>
          <p:cNvPicPr/>
          <p:nvPr/>
        </p:nvPicPr>
        <p:blipFill>
          <a:blip r:embed="rId1"/>
          <a:stretch/>
        </p:blipFill>
        <p:spPr>
          <a:xfrm>
            <a:off x="4114800" y="1447920"/>
            <a:ext cx="4019400" cy="5105160"/>
          </a:xfrm>
          <a:prstGeom prst="rect">
            <a:avLst/>
          </a:prstGeom>
          <a:ln w="0">
            <a:noFill/>
          </a:ln>
        </p:spPr>
      </p:pic>
      <p:sp>
        <p:nvSpPr>
          <p:cNvPr id="140" name="Line 6"/>
          <p:cNvSpPr/>
          <p:nvPr/>
        </p:nvSpPr>
        <p:spPr>
          <a:xfrm>
            <a:off x="3429000" y="1981080"/>
            <a:ext cx="99072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858000" y="6324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e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648320" y="6248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f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9"/>
          <p:cNvSpPr/>
          <p:nvPr/>
        </p:nvSpPr>
        <p:spPr>
          <a:xfrm flipH="1" flipV="1">
            <a:off x="7238520" y="5257440"/>
            <a:ext cx="228600" cy="1066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5105520" y="5333760"/>
            <a:ext cx="0" cy="99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Cau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verting 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utting tre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nging weather patterns/ Global climate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00"/>
                </a:solidFill>
                <a:latin typeface="Garamond"/>
              </a:rPr>
              <a:t>Desertification data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Who’s most immediately affect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70 percent of the world's drylands are degraded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in the world are affected to some degree by desertification.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Globally it is estimated that the annual income lost in the areas affected by desertification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Map of Africa Indicating Desertification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Map59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Verdana"/>
              </a:rPr>
              <a:t>Tex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soilparticles"/>
          <p:cNvPicPr/>
          <p:nvPr/>
        </p:nvPicPr>
        <p:blipFill>
          <a:blip r:embed="rId1"/>
          <a:stretch/>
        </p:blipFill>
        <p:spPr>
          <a:xfrm>
            <a:off x="2362320" y="380880"/>
            <a:ext cx="6172200" cy="62485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6171840" y="5181480"/>
            <a:ext cx="228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00"/>
                </a:solidFill>
                <a:uFillTx/>
                <a:latin typeface="Garamond"/>
              </a:rPr>
              <a:t>Important Legis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Research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d Securities 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stainable Agriculture Research and Education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UNCCD: 199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nvention to Combat Des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0 nations ra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00 million dollars to fund projects to stop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actory Farming: Increasing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biotics are commonly used in animal p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imals are bred to grow faster and to be more desirable for mark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 chickens with more breast me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thetic hormones are approved for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k production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Beef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dl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 corn instead of gra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ned in a small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cal material accumul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ease spreads read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micals used to control dis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Waste Production..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ter 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atment requir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or/airborn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treatment regulations are more lax than for waste from peo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Ero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9720" y="268560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- organic mater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erals (botto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- zone of lea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– high in leached minerals from abo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– original parent mater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112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410080" y="1219320"/>
            <a:ext cx="3733920" cy="45972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IL STRUC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oals of sustainable farm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ustainable farming practices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he following reduce soil erosion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ontour plow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Terracing hill si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Shelterbel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Low or No Till Plowing (wind and wa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rop Rotation (keeps nutrients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tating heavy feeders, mode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eders with soil bui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crop rotation, three sisters"/>
          <p:cNvPicPr/>
          <p:nvPr/>
        </p:nvPicPr>
        <p:blipFill>
          <a:blip r:embed="rId1"/>
          <a:stretch/>
        </p:blipFill>
        <p:spPr>
          <a:xfrm>
            <a:off x="685800" y="83808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ver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 during fallow(off) sea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p nitrates from leaching out of tops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keep soil orgs healthy and “fe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s excess N from runoff into water supp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est Manag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ad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ow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ed Pest Management (IP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8:42:30Z</dcterms:created>
  <dc:creator>tosborne</dc:creator>
  <dc:description/>
  <dc:language>en-US</dc:language>
  <cp:lastModifiedBy>infosys</cp:lastModifiedBy>
  <dcterms:modified xsi:type="dcterms:W3CDTF">2015-11-13T16:53:27Z</dcterms:modified>
  <cp:revision>39</cp:revision>
  <dc:subject/>
  <dc:title>Slide 1</dc:title>
</cp:coreProperties>
</file>